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wmf" ContentType="image/x-wmf"/>
  <Override PartName="/ppt/media/image5.gif" ContentType="image/gif"/>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3024-D9D2-4AC9-BBDC-9B86B528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F489-0DF9-4507-8293-6D20DDCFF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6F25-6B08-4A66-BC3E-B97198BA8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F1A8-4F68-4316-9D1E-A121CE90BF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8210-76DC-4982-A2DF-58E0023161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217C-C770-428F-8D66-01035FA0F5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0B46-7AE7-4A29-88AD-5589922B93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4C4F-5AFB-49BD-98A0-D2E2044998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1DA7-682E-44AF-A745-EA3A3F007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0031-F6C0-4CF3-A8CA-29DCAB8DA0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5D14-602D-4D8A-A368-007D0FA255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159C-F02C-46B0-8FFC-F2A78B962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9BF6-E06A-4438-B631-BB4C59D62C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FC10-3938-46FD-B687-A9BD2D4124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55CA-B396-491D-8F65-0CA763E9F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7C66-00FD-4D1F-A04A-96730806F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7CA-7872-4E8D-8242-7CBC732803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0B8A-EB11-4B34-A091-451547A7E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0CCF-3D93-4384-957C-FFA5F7688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2D73-BB24-4D45-ADDF-EB340B291B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A88E-5386-4056-AD28-955224770E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67AE-8781-4B64-8BC4-1C2EC94356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C436-4B8E-4D88-BFC9-46D2D5651B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360C-E5A2-4D8B-96E4-E776AA1F91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C5AD-F2C6-4A95-B745-C6ABCAB893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B848-B152-4171-BB99-E54B93D45B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8D3DF-9AE1-49DE-94C9-DF5A0A135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2EDC-39B0-460A-A0E4-03FB7F43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11092-5CBB-4959-B02A-D76E62793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8EB3E-E1E3-4702-9293-B3DF7FEBE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B161C-1A99-4318-A407-A4E467313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B7900-088E-4F6F-AE64-5862EA4E0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1B384-E03E-4FB4-B1C7-91C7B6CC7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C0030-B014-46C9-BF0A-6D1E5478C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4685F-C53F-4917-AF82-EB9E02E84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68B27-9F49-4A5F-BBED-7D2F157BE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DD14D-BA0C-4019-95DF-3CE4D3A7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13F4-8CA3-4E26-9902-C26FC2922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0399C-797A-4BFC-9879-3F5A872D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F4380-8D41-440E-B4CD-F0F7EF97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5ACB-92A6-49D5-BA7D-E8069B066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1ACEA-7A77-4905-9537-4C157B28D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6E6F0-6543-4BA8-98B5-7B9EA6500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E4C34-9EB8-4F55-BCCB-E98E2455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BDD73-5114-4923-923F-E4117092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346D-4E98-4D86-A169-FE7447FF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5A8C0-FD2F-43DF-B17D-3D17819F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E774-672C-4048-A823-A09CF83B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433E-A073-4D95-ADB1-E8AA28401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B064-CA47-43E9-8664-3F42C57CB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EAAC-3956-4836-A1A4-EC2E7A6C6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ADB0-2397-4E9B-B2AC-51A9633D2F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EMENTING SITUATIONAL LEADERSHIP:</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COMMIT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cilitative Decision Making</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ers are moderate to high in readiness to make shared decisions, but not yet confid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Let’s pool our thoughts and decide 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e’ve got a problem and I’d like your opin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legative Decision Making</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llowers have a high readiness to make decisions based on experience and inform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 “You know this subject.  Work on it and let me know what you come up w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Use Situational Leadership to decide who owns the decision:</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oritative:  If none of your followers have experience or information in the specific area, they cannot own any part of the decisio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ltative:  If your followers have some knowledge of the subject, they may be capable of contributing to but not making the final decision.</a:t>
            </a:r>
            <a:endParaRPr b="0" lang="en-US" sz="2400" spc="-1" strike="noStrike">
              <a:solidFill>
                <a:srgbClr val="ffffff"/>
              </a:solidFill>
              <a:latin typeface="Times New Roman"/>
            </a:endParaRPr>
          </a:p>
        </p:txBody>
      </p:sp>
      <p:sp>
        <p:nvSpPr>
          <p:cNvPr id="15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tive:  If your followers have quite a bit of experience, they can take some of the responsibility for making the decision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legative:  Appropriate if your followers have a thorough understanding of the subject and a willingness to deal with 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30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Keilty, Goldsmith, and Boone management consulting firm adapted the Situational Leadership model to combine the leader’s decision making latitude with followers’ readiness.</a:t>
            </a:r>
            <a:endParaRPr b="1" lang="en-US" sz="3200" spc="-1" strike="noStrike">
              <a:solidFill>
                <a:srgbClr val="feec94"/>
              </a:solidFill>
              <a:latin typeface="Times New Roman"/>
            </a:endParaRPr>
          </a:p>
        </p:txBody>
      </p:sp>
      <p:sp>
        <p:nvSpPr>
          <p:cNvPr id="157"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ng: high task-low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ing:  high task-high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ing:  low task-high relationshi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ng: low task-low relation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grees of Decision-Making Latitude</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1:  little or no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2:  low to moderate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3:  moderate to high latitud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4:  high latitud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grees of Follower Decision-Making Readiness</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3276720"/>
            <a:ext cx="4038480" cy="28540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1:  low</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2:  moderate</a:t>
            </a:r>
            <a:endParaRPr b="0" lang="en-US" sz="4000" spc="-1" strike="noStrike">
              <a:solidFill>
                <a:srgbClr val="ffffff"/>
              </a:solidFill>
              <a:latin typeface="Times New Roman"/>
            </a:endParaRPr>
          </a:p>
        </p:txBody>
      </p:sp>
      <p:sp>
        <p:nvSpPr>
          <p:cNvPr id="162" name="PlaceHolder 3"/>
          <p:cNvSpPr>
            <a:spLocks noGrp="1"/>
          </p:cNvSpPr>
          <p:nvPr>
            <p:ph/>
          </p:nvPr>
        </p:nvSpPr>
        <p:spPr>
          <a:xfrm>
            <a:off x="4648320" y="3276720"/>
            <a:ext cx="4038480" cy="28540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3:  moderate</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4:  high</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gers carry out their tasks in an interpersonal world.  Other people continually view the manager’s manner, bearing, and conduct.  From their observations, they form impressions of the manager’s values, beliefs, and attitudes.</a:t>
            </a:r>
            <a:endParaRPr b="0" lang="en-US" sz="2800" spc="-1" strike="noStrike">
              <a:solidFill>
                <a:srgbClr val="ffffff"/>
              </a:solidFill>
              <a:latin typeface="Times New Roman"/>
            </a:endParaRPr>
          </a:p>
        </p:txBody>
      </p:sp>
      <p:pic>
        <p:nvPicPr>
          <p:cNvPr id="165" name="Picture 16" descr="txoz1uiz[1]"/>
          <p:cNvPicPr/>
          <p:nvPr/>
        </p:nvPicPr>
        <p:blipFill>
          <a:blip r:embed="rId1"/>
          <a:stretch/>
        </p:blipFill>
        <p:spPr>
          <a:xfrm>
            <a:off x="4952880" y="1905120"/>
            <a:ext cx="358164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make a powerful and positive impression on others because they blend a set of positive beliefs with an equally appropriate set of positive behaviors.</a:t>
            </a:r>
            <a:endParaRPr b="0" lang="en-US" sz="2800" spc="-1" strike="noStrike">
              <a:solidFill>
                <a:srgbClr val="ffffff"/>
              </a:solidFill>
              <a:latin typeface="Times New Roman"/>
            </a:endParaRPr>
          </a:p>
        </p:txBody>
      </p:sp>
      <p:pic>
        <p:nvPicPr>
          <p:cNvPr id="168" name="Picture 13" descr="esgll0ul[1]"/>
          <p:cNvPicPr/>
          <p:nvPr/>
        </p:nvPicPr>
        <p:blipFill>
          <a:blip r:embed="rId1"/>
          <a:stretch/>
        </p:blipFill>
        <p:spPr>
          <a:xfrm>
            <a:off x="685800" y="1752480"/>
            <a:ext cx="3200400" cy="358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most effective managers share a fundamentally similar set of five commitments:</a:t>
            </a:r>
            <a:endParaRPr b="1" lang="en-US" sz="4000" spc="-1" strike="noStrike">
              <a:solidFill>
                <a:srgbClr val="feec94"/>
              </a:solidFill>
              <a:latin typeface="Times New Roman"/>
            </a:endParaRPr>
          </a:p>
        </p:txBody>
      </p:sp>
      <p:sp>
        <p:nvSpPr>
          <p:cNvPr id="170" name="PlaceHolder 2"/>
          <p:cNvSpPr>
            <a:spLocks noGrp="1"/>
          </p:cNvSpPr>
          <p:nvPr>
            <p:ph/>
          </p:nvPr>
        </p:nvSpPr>
        <p:spPr>
          <a:xfrm>
            <a:off x="457200" y="2361960"/>
            <a:ext cx="8229600" cy="3809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he custom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he organiz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self</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peop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ment to task</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gether, these commitments form the essential framework for long-term achievement of managerial excell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he Customer</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provide useful service to customers (anyone who benefits from the manager’s work).  The excellent manager demonstrates strong commitment to the customer by:</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ng the customer and consistent, conscientious dedication to customer needs</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customer importance by presenting the customer in a positive manner to those who provide service to the custom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wo of the most important activities a manager can perform ar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Making decisions that stick</a:t>
            </a:r>
            <a:r>
              <a:rPr b="0" lang="en-US" sz="4400" spc="-1" strike="noStrike">
                <a:solidFill>
                  <a:srgbClr val="ffffff"/>
                </a:solidFill>
                <a:latin typeface="Times New Roman"/>
              </a:rPr>
              <a:t>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Building commitment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he Organizatio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managers personally project pride in their organizations and instill the same pride in others.  Three ways managers demonstrate this commitment:</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the organization – constantly presenting the organization in a positive wa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ing higher management – builds loyalty to organization</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rating by the basic organizational values – clearly communicates what the organization stands f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Self</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present a strong, positive image.  They combine strength with a sense of humility.  Three activities that demonstrate commitment to self:</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nstrating autonomy – act as though running own business, accepting responsibility ownership</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self as a manager – appear confident and self-assured and act on basis of honesty and integrit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pting constructive criticism – admit mistakes, encourage and accept constructive criticism, avoid recrimination and adverse rea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People</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295280"/>
            <a:ext cx="8229600" cy="48355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managers display dedication to the people who work for them.  They use the proper style of leadership to help individuals succeed.  Three vital activities in this commitment are:</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ing positive concern and recognition – rewarding and reinforcing performance in atmosphere of courtesy and respect</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developmental feedback – intervening when performance doesn’t meet standards through honest feedback, guidance, and coaching</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ing innovative ideas – listening to others’ ideas, providing opportunities to test ideas and directing credit to its originator.</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mitment to Task</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294920"/>
            <a:ext cx="8229600" cy="495324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cessful managers give meaning and relevance to the tasks people perform.  They provide focus and direction b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ing the right focus – concentrating attention on overall mission</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ing it simple – breaking work into achievable components by fully considering objectives, tasks, human capabiliti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ing action-oriented – getting things done, maintaining positive momentum, setting realistic deadlin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task importance – playing up importance of the work, expecting excellent resul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Manager</a:t>
            </a:r>
            <a:endParaRPr b="1" lang="en-US" sz="4400" spc="-1" strike="noStrike">
              <a:solidFill>
                <a:srgbClr val="feec94"/>
              </a:solidFill>
              <a:latin typeface="Times New Roman"/>
            </a:endParaRPr>
          </a:p>
        </p:txBody>
      </p:sp>
      <p:sp>
        <p:nvSpPr>
          <p:cNvPr id="18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nager is the critical link among the commitments.  By taking personal responsibility and acting as a positive force, the manager can strongly influence the organization and its people, tasks, and customers.  The active involvement and personal integrity of excellent managers flow to others.  For each commitment, they build proper attitudes and demonstrate positive caring and concerns.  Building commitments becomes the responsibility of every employe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12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pic>
        <p:nvPicPr>
          <p:cNvPr id="184" name="Picture 6" descr="j0254421"/>
          <p:cNvPicPr/>
          <p:nvPr/>
        </p:nvPicPr>
        <p:blipFill>
          <a:blip r:embed="rId1"/>
          <a:stretch/>
        </p:blipFill>
        <p:spPr>
          <a:xfrm>
            <a:off x="457200" y="380880"/>
            <a:ext cx="82296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ing Effective Decisions</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chances for current success and future career advancement are helped if you 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Make the right decisions in areas you </a:t>
            </a:r>
            <a:r>
              <a:rPr b="0" lang="en-US" sz="3200" spc="-1" strike="noStrike">
                <a:solidFill>
                  <a:srgbClr val="ffffff"/>
                </a:solidFill>
                <a:latin typeface="Times New Roman"/>
              </a:rPr>
              <a:t>	</a:t>
            </a:r>
            <a:r>
              <a:rPr b="0" lang="en-US" sz="3200" spc="-1" strike="noStrike">
                <a:solidFill>
                  <a:srgbClr val="ffffff"/>
                </a:solidFill>
                <a:latin typeface="Times New Roman"/>
              </a:rPr>
              <a:t>contro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  Submit sound recommendations when </a:t>
            </a:r>
            <a:r>
              <a:rPr b="0" lang="en-US" sz="3200" spc="-1" strike="noStrike">
                <a:solidFill>
                  <a:srgbClr val="ffffff"/>
                </a:solidFill>
                <a:latin typeface="Times New Roman"/>
              </a:rPr>
              <a:t>	</a:t>
            </a:r>
            <a:r>
              <a:rPr b="0" lang="en-US" sz="3200" spc="-1" strike="noStrike">
                <a:solidFill>
                  <a:srgbClr val="ffffff"/>
                </a:solidFill>
                <a:latin typeface="Times New Roman"/>
              </a:rPr>
              <a:t>requested by your supervis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Causes for Decision-Making Difficulties</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2590560"/>
            <a:ext cx="4038480" cy="35398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adequate input</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flicting information</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dget restraints</a:t>
            </a:r>
            <a:endParaRPr b="0" lang="en-US" sz="3600" spc="-1" strike="noStrike">
              <a:solidFill>
                <a:srgbClr val="ffffff"/>
              </a:solidFill>
              <a:latin typeface="Times New Roman"/>
            </a:endParaRPr>
          </a:p>
        </p:txBody>
      </p:sp>
      <p:sp>
        <p:nvSpPr>
          <p:cNvPr id="136" name="PlaceHolder 3"/>
          <p:cNvSpPr>
            <a:spLocks noGrp="1"/>
          </p:cNvSpPr>
          <p:nvPr>
            <p:ph/>
          </p:nvPr>
        </p:nvSpPr>
        <p:spPr>
          <a:xfrm>
            <a:off x="4648320" y="2590560"/>
            <a:ext cx="4038480" cy="353988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 squeezes</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arce re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ituational Leadership</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uational leadership can serve as a simple and logical framework for making decisions that stick.</a:t>
            </a:r>
            <a:endParaRPr b="0" lang="en-US" sz="3600" spc="-1" strike="noStrike">
              <a:solidFill>
                <a:srgbClr val="ffffff"/>
              </a:solidFill>
              <a:latin typeface="Times New Roman"/>
            </a:endParaRPr>
          </a:p>
        </p:txBody>
      </p:sp>
      <p:pic>
        <p:nvPicPr>
          <p:cNvPr id="139" name="Picture 7" descr="j0234687"/>
          <p:cNvPicPr/>
          <p:nvPr/>
        </p:nvPicPr>
        <p:blipFill>
          <a:blip r:embed="rId1"/>
          <a:stretch/>
        </p:blipFill>
        <p:spPr>
          <a:xfrm>
            <a:off x="4800600" y="182880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ur Decision-Making Styles</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i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l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litat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v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ach style has a high probability of getting results if used in the appropriate circumstan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thoritative Decision Mak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ers do not have the ability, willingness, or confidence to hel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the only source of information or experti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I’ve decided th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Here’s what we’re going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sultative Decision Making</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nager has the necessary experience and information to reach a conclusion.</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llowers possess some experience or knowledge and are willing but not yet able to help.</a:t>
            </a:r>
            <a:endParaRPr b="0" lang="en-US" sz="32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manager gets input before making the decision, making it clear the final decision is his.</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phrases:  “What do you know about…”</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d like some information 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vantages of Consultative Decision Making</a:t>
            </a:r>
            <a:endParaRPr b="1" lang="en-US" sz="4000" spc="-1" strike="noStrike">
              <a:solidFill>
                <a:srgbClr val="feec94"/>
              </a:solidFill>
              <a:latin typeface="Times New Roman"/>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the likelihood your decision will be correc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e followers motivation and help them identify with department goals.</a:t>
            </a:r>
            <a:endParaRPr b="0" lang="en-US" sz="3200" spc="-1" strike="noStrike">
              <a:solidFill>
                <a:srgbClr val="ffffff"/>
              </a:solidFill>
              <a:latin typeface="Times New Roman"/>
            </a:endParaRPr>
          </a:p>
        </p:txBody>
      </p:sp>
      <p:pic>
        <p:nvPicPr>
          <p:cNvPr id="148" name="Picture 9" descr="j0172572"/>
          <p:cNvPicPr/>
          <p:nvPr/>
        </p:nvPicPr>
        <p:blipFill>
          <a:blip r:embed="rId1"/>
          <a:stretch/>
        </p:blipFill>
        <p:spPr>
          <a:xfrm>
            <a:off x="990720" y="1981080"/>
            <a:ext cx="289548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47Z</dcterms:created>
  <dc:creator>Charlotte-Mecklenburg School District</dc:creator>
  <dc:description/>
  <dc:language>en-US</dc:language>
  <cp:lastModifiedBy>AEURY</cp:lastModifiedBy>
  <dcterms:modified xsi:type="dcterms:W3CDTF">2007-11-19T15:35:25Z</dcterms:modified>
  <cp:revision>4</cp:revision>
  <dc:subject/>
  <dc:title>Chapter 16</dc:title>
</cp:coreProperties>
</file>